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C0A6-277E-4D05-8DFF-CA2E905E0A7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D655-D859-4F34-A8EC-83FD4410BB8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FEFA-16EB-4CFD-B65C-1822D9B9A10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BFDB-B2B2-4814-A01D-F72227BA603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E5B2-E8C7-4D4B-A234-A976AAD636C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EF12-7661-47CA-9AF8-4391EE35BA5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D913-C988-4375-90D8-E9C123DD1C3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C79B-EF78-412B-8279-B36CB833DF2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FF90-976B-4E92-A367-C641ECC0172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F976-3789-43C6-B261-DE572375BB7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1A24-C7BB-4695-B093-D16FAD864E7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0DFB-C029-46BD-8679-3359C9CDDC2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3D7E-7BE3-4867-AACA-423D6DA35D1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4B4D-AAA4-4E41-8E69-3BAB81C2966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1C66-0294-4BA0-A2CD-C0BCA7A10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D8E31-E2A8-4470-AD00-6431AA075B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FAB52-7EBE-44CA-963D-0464E7D88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F1AB-0A80-4980-9C16-6469FD64C2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A38F4-E708-40BA-B47F-B30C7221BA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29E8-014F-4DD5-BBF1-986F8E5CA7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5CEF6-9347-4F82-BE7B-5C2F349D5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DC33-011E-4E45-A3C6-0E4EDD34C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B86DD-4A65-4FFD-A6DE-E9E76B1D39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D9D0-5548-4CB8-8A6A-166CD0058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A67D4-C729-4119-A44D-7B07A3EB2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F1C77-4B8F-4A0D-A581-7FA923B39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34A6-BE22-4D60-B303-B4043DD329E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008000"/>
                <a:gridCol w="3961080"/>
                <a:gridCol w="381636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시간 발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제출 불필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연구관리시스템 발표자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업로드란에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‘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용 계획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’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업로드할 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1-05T01:20:08Z</dcterms:modified>
  <cp:revision>96</cp:revision>
  <dc:subject/>
  <dc:title>2006년도 식품의약품안전청 공개발표 선정평가    ℹ 사 업 명 :   ℹ 과 제 명 :   ℹ 연 구 비 :   ℹ 신청기관 :   ℹ 주관연구책임자 :</dc:title>
</cp:coreProperties>
</file>