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87F7-6595-4E8C-86FF-2C5242CE501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4729-CE2A-40C1-902B-8BF1DDA5E36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54CB-0974-4B9B-820E-B4B07781931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96A9-E071-44E1-9C7A-90857916D8A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E2F8-A97E-42A8-A430-B8F951DEE8C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076F-72B2-4385-B66A-5C1542DECE1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6C1A-0CAC-40EC-ADEF-E3CA04A5B07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2303-B5BA-4684-939B-18CB307C34D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4E67-B002-4A54-85D6-5B1A458C36D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ECF0-348D-4DFA-9819-4AC3ED5C26E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F4AA-1EBD-4B1E-B862-3BAEF07E1C0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8A38-7DA5-4C7A-8131-AB02983809A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B1FC-344D-4060-A357-F97B8DCD489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7895-2261-4082-877B-E536D53A181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2262-888E-4197-88DD-A3308981B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B093-8CBB-40C8-B0E4-746E300E6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7FCB-C16C-462F-A020-C56880329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4ED9-390C-4D6F-8662-001B6206A7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34A3-8E02-41E1-AF29-46AFA7B55C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1304-D081-458E-91FD-24E813607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66DF-D6AD-426D-BBEE-286592AD8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F83E-D9AF-45B7-90F4-14DB8A443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9F2C-4689-4DD4-B751-EB9168865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0869-1CD3-4647-8BDA-FB30E75A9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73AB-6116-49F4-A8FB-446F19499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71B9-E922-4FAA-B318-C955EC782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E36E-0063-4F8E-8D30-90BC4618E9A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성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기관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22T06:46:42Z</dcterms:modified>
  <cp:revision>99</cp:revision>
  <dc:subject/>
  <dc:title>2006년도 식품의약품안전청 공개발표 선정평가    ℹ 사 업 명 :   ℹ 과 제 명 :   ℹ 연 구 비 :   ℹ 신청기관 :   ℹ 주관연구책임자 :</dc:title>
</cp:coreProperties>
</file>