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E146-313B-4602-8CD9-6463949ABC8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81B0-2C33-4C0B-8F5B-43A79FFC8B2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8886-5E67-449D-87AD-91244134C7A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1E63-E682-48D7-8043-592B39CB55F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86745-E210-4BDA-8A55-98A6D58E491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548D-2053-43C7-9FEB-B66B94907B1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7016-D971-4AD0-8E75-AC45A64ADC9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4025-771F-4776-B475-2FE448C2658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C043-B2A0-401B-B3FC-F5B98C9ADC4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20FF-AC14-481C-ACAB-1EAFC5EEF84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27280-7435-4F87-9177-398E07BD596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FFDFB-EDC9-4394-B347-642F33F35D9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3678-C365-4A00-B5C1-B46E705718C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DAC0-39FE-49F7-B2AE-6A9F1DDE190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883B-E872-41DD-9478-08AC3D3FBF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69655-7136-4B30-A075-CAFFB643C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1E3B-FE66-4A17-ABDD-6BA9C7688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7D13E-536A-4B5F-BBC0-FAFFD229C3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8730-4F0A-414C-B7DF-8AE075CD99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5CB4A-A8CE-474C-998E-5236728220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7C1E3-91AA-489E-BD30-2F699FB086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88A59-57CB-47C3-AB85-2B04B16C1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E295C-68B6-441A-B6CF-0C0E51502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75192-99E4-483F-BC1F-0FC7E5EAD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9F426-1E66-4BF1-8616-60B42A519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457F6-88B9-441B-829A-30DEDCB21C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E777-15A9-4479-B066-9C46045B218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782720"/>
                <a:gridCol w="700272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실시간 발표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성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기관명 기재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1-22T06:46:42Z</dcterms:modified>
  <cp:revision>99</cp:revision>
  <dc:subject/>
  <dc:title>2006년도 식품의약품안전청 공개발표 선정평가    ℹ 사 업 명 :   ℹ 과 제 명 :   ℹ 연 구 비 :   ℹ 신청기관 :   ℹ 주관연구책임자 :</dc:title>
</cp:coreProperties>
</file>