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F211-F8A1-4C69-AE26-1215BEC7FB9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C14A-516C-4609-B9A4-CD3ADFF3933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B81B-09C4-45D7-812D-CEA085075B1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09F8-5970-4E43-8D3F-A52FE270746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409E-1989-4010-AF23-3290A73E18E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1849-260B-4BB1-8AD3-213E6C90E4C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4CA8-4F84-48C2-BE41-04FBC1CB0CF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110C-E17B-4C11-9F8C-C75E1D3FD02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AFEE-0C79-4BEB-A2D8-DDCB021065C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AB6F-57EC-4324-9AFB-7027735FF4B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FA53-F8EF-414B-BAF5-8B3EECD2E97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6850-9E0C-4192-9998-FD76108C516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7DD9-2744-47A5-B1C1-3449FF4548F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5E90-604E-4DFE-88D0-CD15C3978CB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941C5-2D9C-42C5-8C58-858AD7DD26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96FA8-C54C-4CEC-BC46-BABC1BCF7A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4F21E-3007-46DB-A978-31BAFD1F25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A0F40-FD06-45AF-AFD3-B39DA1886D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0422C-D828-4223-8ADD-7B0736CDE8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B91D3-2E14-42D1-AFA7-8D3850A9DE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BC584-2CFB-4F10-A188-5287C9D113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E7566-A600-4D9C-9B2F-2406B7E6AE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64340-245E-4FA0-A6BD-E7B3CF6324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CA937-7456-47AB-B7DB-AD00B2C3B2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531B1-5F01-422E-B9A9-97834BA41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09D49-AB00-4CDC-A5E8-95DBD6EF33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9367-EBBA-40B1-A599-00A65CD00E9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79280" y="4292640"/>
            <a:ext cx="8785440" cy="24494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참고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 작성 시 제공된 양식 사용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본 파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구성 및 기본 양식은 변경할 수 없음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폰트 및 배경 등은 변경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특수 폰트 및 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, PDF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파일로 변환하여 제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제출 후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,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접수된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파일은 절대 수정 불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본 페이지는 발표자료에서 삭제해 주시기 바랍니다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133560"/>
            <a:ext cx="8785440" cy="8618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1197000"/>
          <a:ext cx="8785440" cy="2808360"/>
        </p:xfrm>
        <a:graphic>
          <a:graphicData uri="http://schemas.openxmlformats.org/drawingml/2006/table">
            <a:tbl>
              <a:tblPr/>
              <a:tblGrid>
                <a:gridCol w="1008000"/>
                <a:gridCol w="3961080"/>
                <a:gridCol w="3816360"/>
              </a:tblGrid>
              <a:tr h="585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표평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서면평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제출 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PDF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 변환하여 제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제출 불필요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연구관리시스템 발표자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업로드란에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‘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용 계획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’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업로드할 것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 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식약처 주관부서에서 진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1-02-18T12:10:53Z</dcterms:modified>
  <cp:revision>97</cp:revision>
  <dc:subject/>
  <dc:title>2006년도 식품의약품안전청 공개발표 선정평가    ℹ 사 업 명 :   ℹ 과 제 명 :   ℹ 연 구 비 :   ℹ 신청기관 :   ℹ 주관연구책임자 :</dc:title>
</cp:coreProperties>
</file>