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2A50-6AFB-4DCA-BB60-0AFD83FE580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74D0-4440-4F5C-BBB7-B9ACBBA8CC5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6F6C-B8BC-4479-846E-B1E565B7F7E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C2EC-4575-4C70-AC72-404F801EEDB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29D8-DAA8-4129-B3FC-1B1F8021150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5902-6AE3-4480-BD69-8C6A55D0061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9B4D-3DCE-4C86-B1D6-16A72BC81CD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2CEF-6005-4E5F-A749-9734E460010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133F-0F4A-4666-A50B-725E9FC316E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6750-AB98-4147-8A7F-1DA0273CB43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1093-4097-4253-8FBF-E4C63769B4A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86C5-B4EE-48BA-8913-6F8FC2682E1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7B33-D4CC-4FA7-A934-E3C5B7E16D6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AEB4-15FA-4713-B529-89FEBC532B7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3459-28AC-403C-92E6-4DA12D418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93E65-C5E9-40E2-8002-23AA2287B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8E80-F3F5-4181-9786-2291C33B6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3F686-26EF-42DD-83ED-DD744855D7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1F65-2DBC-40CA-B69B-6014EA3930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2B20-B286-44A2-B921-F34B82951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D7A5-76E3-4F7D-A40F-152AC78F0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FB15-15F2-4472-B8DA-37D7D6456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0E8F-0D6E-476E-A8F7-7836149F7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664A-2B1C-4814-916D-4946D1CD7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22D1-2352-4E8D-8B92-E2B0BAAC4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4781-9617-4987-93FC-4AB6C97E8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58D4-F694-46D6-A8C8-8B0FAD1E635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용 계획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’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업로드할 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2-18T12:10:53Z</dcterms:modified>
  <cp:revision>97</cp:revision>
  <dc:subject/>
  <dc:title>2006년도 식품의약품안전청 공개발표 선정평가    ℹ 사 업 명 :   ℹ 과 제 명 :   ℹ 연 구 비 :   ℹ 신청기관 :   ℹ 주관연구책임자 :</dc:title>
</cp:coreProperties>
</file>