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BC24-756C-4270-86B0-928BC60B8E9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AD8A-B629-4675-9A52-2F1A94CEF2E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92E1-C594-4765-AAC0-529C791BD07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5457-6F1F-44C2-9971-0D5C10410C9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A551-1203-4BFF-BE80-E26A968FFE2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60AA-2FB6-4DFF-9215-E846A21304C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90DE-A11F-4F19-AC48-D7F991B1419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AB06-3E87-4839-AF29-E35FF8C3227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A4F5-3458-4F3E-8A37-13477F82F2E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7EAA-98F6-4FA0-A27C-B94DCB87599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7A8D-2BC4-4988-A3CC-2AE872C8B80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5D9A-C835-4C5F-85BB-32CD4549B3A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3B07-6437-49D3-A59C-542A3CAC039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8CC2-A964-40A0-BF59-857D8940D6F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52BB-CC2D-4CEF-A2BD-6F4C0A962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0D46-318B-47D8-8BF3-0A23EC327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08D3-0E3B-4D8A-99BE-5F1377665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6A45-1C2D-45CA-8200-E16E8B43BA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953C-5D2B-4F22-BCCB-A1E94E8DDC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86D0-04EB-495B-B0E8-39A07E633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A705-FCED-46FE-9953-E864482A9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5A15-27CD-4FF6-94AC-101735505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5277-C977-4950-B027-491CCE597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2B3B-FFE0-4A35-B74E-F0E66F1E1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9D04-6E68-4BF0-B270-BE755F8B3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19E82-84F2-478E-918B-EFBF4B9C5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33C1-906F-44C9-809A-3ADD7E0D55C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빈 파일 업로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4-08T08:53:09Z</dcterms:modified>
  <cp:revision>98</cp:revision>
  <dc:subject/>
  <dc:title>2006년도 식품의약품안전청 공개발표 선정평가    ℹ 사 업 명 :   ℹ 과 제 명 :   ℹ 연 구 비 :   ℹ 신청기관 :   ℹ 주관연구책임자 :</dc:title>
</cp:coreProperties>
</file>