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09BC-DCE9-43D8-94F5-01893CED13C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242-A8C9-46C9-B19C-05100C2374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C4D3-053E-4898-8575-647AE89732A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41AB-23FB-4C3C-8129-5E3E93F956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1ED0-49A2-4AD8-9910-FE363643CFF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CE6A-BE2E-471C-A087-52D3C752A46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8A9F-25B9-4CC0-B770-A512FB216F4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0F31-C4BA-4E55-81EC-FE8151713A0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6AE4-088E-4AD6-A080-184F5AB0143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39E-C097-4562-9F78-F2872322F5B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E51F-C220-476B-9C0D-6877E12B3FA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F4DE-914F-41A8-A476-4E5F22E60B1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279C-3719-4F04-B787-2BAA9482182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E097-57AB-4057-A88B-688BB741685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C2D0-B33B-4868-B675-E02C3F765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CDF4-1655-4534-A985-F35AD7B7B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F47A-FB5A-402C-801A-824C6295E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FCD6-687C-4ABD-AB21-1F020993D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FED3-1D2C-4DD0-ACDF-7B46190F78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A4D3-15E4-47E7-8991-6359B9ADC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8F3C-48D1-462D-8B81-6C8075D44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A9A0-2656-4FA5-970A-7FA73FF69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65E3-69D9-487C-979A-2341408CD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0029-9E87-4FF2-9CD5-09D165738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49B3-D2E4-44BB-A096-FE4FAC266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C947-F377-4A47-A552-2533878E6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C159-7162-4F1F-A331-3EE8ABB374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 디자인 요소는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/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8-30T04:31:01Z</dcterms:modified>
  <cp:revision>104</cp:revision>
  <dc:subject/>
  <dc:title>2006년도 식품의약품안전청 공개발표 선정평가    ℹ 사 업 명 :   ℹ 과 제 명 :   ℹ 연 구 비 :   ℹ 신청기관 :   ℹ 주관연구책임자 :</dc:title>
</cp:coreProperties>
</file>