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E9C9-64B6-458A-8285-EE7980A38F7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DBDC-2622-44C1-B089-6FCC7DE57B6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EBC7-FC35-4AB7-95E7-138DD790B60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0B74-8889-4EFB-AAE6-E3AF07000AC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3AB5-F025-4128-9F38-CBD958159B6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0EFA-CDFF-418A-ABDE-D5470ADE7B8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9ADD-8275-4A70-A862-6D126CB892B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D1E-E34C-43A1-A2F0-C3CDF31077F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D5F4-9EF7-4DE3-BE50-EA3624A4E3F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29F3-576E-41F6-9127-BE5439E6EAE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A6D7-10AA-484A-B010-891FEB0DE67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FC98-31ED-4121-825F-6C8BE92CF71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634D-27B7-4CDD-91D4-F825C88D447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A8C3-20D2-48B6-A378-F1311399604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7236-9B2E-4BBE-B0D5-3CCDBEC24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E6DF-0142-4CE7-A4B0-30C13D12D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2ED8-C353-470A-9E26-A78B2FD9D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F014-3702-48E1-BFE0-037D2F3EC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2C23-9BB7-4735-B9E2-EE3737432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7125-AE9B-4516-B364-5C634D54B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AA8C-29AF-4409-B211-11BC22FF4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E28D-E0EA-4F2F-ABB5-98A7D4A52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19A9-BD36-48C9-A06C-0706CCC02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36CC-D4B4-4671-88A5-83CF22F37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F5A3-E003-4993-BF25-44706661C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D0F4-DBB1-41AA-9FA5-14C1068B4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C11E-0778-4644-A50F-2BB265A631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 디자인 요소는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/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8-30T04:31:01Z</dcterms:modified>
  <cp:revision>104</cp:revision>
  <dc:subject/>
  <dc:title>2006년도 식품의약품안전청 공개발표 선정평가    ℹ 사 업 명 :   ℹ 과 제 명 :   ℹ 연 구 비 :   ℹ 신청기관 :   ℹ 주관연구책임자 :</dc:title>
</cp:coreProperties>
</file>