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2104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2104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5EBF1-9D69-4719-A16B-D11F22CE4C2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4C3E5-DFD4-40E8-8422-4782EC1FA54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0BD26-B7BC-4FAD-A078-340D0450DFF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949CD-903D-4981-B2C2-1C35DD1047D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3533F-CE9B-4115-B1C7-40A984A4C48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2F5E4-1304-4A92-A0E5-9D184FFA5C5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D8D9A-3CED-45C6-87BD-271D4A6F8CB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38048-9EF5-43CF-BD9B-283F61E3ADC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B8DF0-2CEE-42C6-819C-41BA323378F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8E4EC-C635-4777-9328-F8F89B61D29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A74AA-4E50-4F5E-A1AA-29858EBE0B8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C021B-C579-48C1-8B74-6D7E2063319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87015-E757-4C3E-A1A8-E6157A5AF75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08AD3-A348-45B1-9AA1-CFB5F78CA41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6C6A5-DD2A-4701-8916-C5A76F28F7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258A8-9953-4F2E-B0AD-5C7E9C0916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AD0DB-2FE4-4035-9F4E-CA2ADAFF7F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8A16C-BCC1-4B77-B41E-11EBBE9733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423A8-B75D-4F2D-BED9-DC76BFC173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E7025-4102-45BB-81A7-119C098686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B452E-F177-4B3E-8C2F-030969CD9F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5376B-1211-4D5D-8E53-E783A4C463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7B8ED-3DF0-4F70-B629-90166CD153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51B8D-78A8-4C1F-9D56-D695D4D0B1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0AF84-0FCF-4E15-A6DE-1A396895C7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AA45D-C735-44D2-A106-C1111B25EC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C752A-506B-4EFD-A54D-239D0288A64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179280" y="4292640"/>
            <a:ext cx="8785440" cy="244944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◎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[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첨부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1] 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과제 목록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의 각 과제별 평가방법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반드시 확인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◎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 작성 시 제공된 양식 사용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본 파일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의 구성 및 기본 양식은 변경할 수 없음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폰트 및 배경 등 디자인 요소는 변경 가능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의 페이지 수 제한 없음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특수 폰트 및 애니메이션 효과는 구현되지 않으므로 사용 자제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, PDF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파일로 변환하여 제출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※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제출 후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,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접수된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파일은 절대 수정 불가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※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본 페이지는 발표자료에서 삭제해 주시기 바랍니다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179280" y="133560"/>
            <a:ext cx="8785440" cy="861840"/>
          </a:xfrm>
          <a:prstGeom prst="rect">
            <a:avLst/>
          </a:prstGeom>
          <a:noFill/>
          <a:ln w="7632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발표자료 작성 시 주의사항</a:t>
            </a:r>
            <a:endParaRPr b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79280" y="1197000"/>
          <a:ext cx="8785440" cy="2808360"/>
        </p:xfrm>
        <a:graphic>
          <a:graphicData uri="http://schemas.openxmlformats.org/drawingml/2006/table">
            <a:tbl>
              <a:tblPr/>
              <a:tblGrid>
                <a:gridCol w="1782720"/>
                <a:gridCol w="7002720"/>
              </a:tblGrid>
              <a:tr h="585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표평가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066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제출 방법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PDF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로 변환하여 제출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5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평가 시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RFP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설명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식약처 주관부서에서 진행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 / </a:t>
                      </a: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발표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20</a:t>
                      </a: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분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/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질의응답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당해연도 연구개발비 규모 및 비목별 예산편성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900000" y="1193760"/>
          <a:ext cx="7345440" cy="4827600"/>
        </p:xfrm>
        <a:graphic>
          <a:graphicData uri="http://schemas.openxmlformats.org/drawingml/2006/table">
            <a:tbl>
              <a:tblPr/>
              <a:tblGrid>
                <a:gridCol w="881280"/>
                <a:gridCol w="1158840"/>
                <a:gridCol w="928440"/>
                <a:gridCol w="2041560"/>
                <a:gridCol w="1113120"/>
                <a:gridCol w="1222200"/>
              </a:tblGrid>
              <a:tr h="562320">
                <a:tc gridSpan="3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                               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   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  목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 구 개 발 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율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%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건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rowSpan="11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내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외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유인물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험분석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산처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약 및 연구용 재료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의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임차료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교통통신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감가상각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성과활용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합         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60" name="Text Box 86"/>
          <p:cNvSpPr/>
          <p:nvPr/>
        </p:nvSpPr>
        <p:spPr>
          <a:xfrm>
            <a:off x="7020000" y="892080"/>
            <a:ext cx="145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단위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국외출장의 적절성</a:t>
            </a: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지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자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장목적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비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8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 일정의 적정성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적하는 연구결과 도출 가능성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0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성과의 활용 가능성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과제제안서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RFP)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목표 </a:t>
            </a: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요연구내용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대성과 및 활용분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609480" y="549360"/>
            <a:ext cx="7925040" cy="565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단위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r>
              <a:rPr b="1" i="1" lang="en-US" sz="2000" spc="-1" strike="noStrike">
                <a:solidFill>
                  <a:srgbClr val="3333cc"/>
                </a:solidFill>
                <a:latin typeface="굴림"/>
              </a:rPr>
              <a:t>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번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접수번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연구관리시스템상 접수번호 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책임자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기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세부연구책임자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세부연구기관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기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~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당해연도 연구개발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(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상 연구비 기입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표 및 필요성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계획서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RFP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의 부합성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범위 및 내용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추진전략 및 체계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책임자의 역량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업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전문성 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에 필요한 시설 및 장비 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(</a:t>
            </a:r>
            <a:r>
              <a:rPr b="1" i="1" lang="ko-KR" sz="1600" spc="-1" strike="noStrike">
                <a:solidFill>
                  <a:srgbClr val="0000ff"/>
                </a:solidFill>
                <a:latin typeface="굴림"/>
              </a:rPr>
              <a:t>해당사항 없으면 삭제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971640" y="1628640"/>
          <a:ext cx="7200720" cy="4105440"/>
        </p:xfrm>
        <a:graphic>
          <a:graphicData uri="http://schemas.openxmlformats.org/drawingml/2006/table">
            <a:tbl>
              <a:tblPr/>
              <a:tblGrid>
                <a:gridCol w="1893960"/>
                <a:gridCol w="822240"/>
                <a:gridCol w="1706400"/>
                <a:gridCol w="1957320"/>
                <a:gridCol w="820800"/>
              </a:tblGrid>
              <a:tr h="63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구기자재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및 시설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량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용도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확보 및 활용방안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47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04:24:03Z</dcterms:created>
  <dc:creator>SEC</dc:creator>
  <dc:description/>
  <dc:language>en-US</dc:language>
  <cp:lastModifiedBy>Administrator</cp:lastModifiedBy>
  <cp:lastPrinted>2020-02-04T06:07:16Z</cp:lastPrinted>
  <dcterms:modified xsi:type="dcterms:W3CDTF">2021-08-30T04:31:01Z</dcterms:modified>
  <cp:revision>104</cp:revision>
  <dc:subject/>
  <dc:title>2006년도 식품의약품안전청 공개발표 선정평가    ℹ 사 업 명 :   ℹ 과 제 명 :   ℹ 연 구 비 :   ℹ 신청기관 :   ℹ 주관연구책임자 :</dc:title>
</cp:coreProperties>
</file>