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9C08-76C6-4AB5-ABAD-66E003094D2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0299-F578-4575-B9C6-BA946120F18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EEE6-5673-4B09-B699-6E237E0DE54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D4C5-51BE-4966-A8BC-5885D2025B0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FC35-8040-4215-88A3-E212E1079C0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7CCF-EEAE-41DE-914A-A2AC358D79D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EC75-7CC9-487D-9159-6138CC861B0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268B-B586-4482-A8DC-999FF9DD49E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EA1E-847F-48FD-AE2E-4A0AAA2D68A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9EF7-81CB-477C-AA84-3B2F84CD09C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F929-B67F-42AF-8868-BFDBC262D7A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C29F-DEB9-47C0-9D84-EF377A54057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A968-205C-4809-B1E2-7C038A5E2BA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E96F-A048-419D-9300-EC0B5CA4B69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E1D7-497C-40C6-89F1-039DFD8D7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D38E-5E9B-4D72-8829-D5E8E8C3C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343D-6C07-4C79-9A18-307B34A2D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8453-0FAF-42DF-95CE-158296AA4D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A756B-0DF2-43E1-949C-BC66EBBB1E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438E-C6F2-4076-9165-2859CAD54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18061-10E2-490E-A097-B3723907E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99D9-D4E6-4756-9E27-5F9E4F772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B19A0-46AC-4088-8153-41F8E0C0C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3E36-95B2-4FEC-AE56-C518CE171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EB6D-485E-4889-91FB-9A2CC558A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A471-E169-4DE0-8FE1-06EF87DB3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B54D-BBDE-4025-B089-BEF7F4B1DDB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성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기관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22T06:46:42Z</dcterms:modified>
  <cp:revision>99</cp:revision>
  <dc:subject/>
  <dc:title>2006년도 식품의약품안전청 공개발표 선정평가    ℹ 사 업 명 :   ℹ 과 제 명 :   ℹ 연 구 비 :   ℹ 신청기관 :   ℹ 주관연구책임자 :</dc:title>
</cp:coreProperties>
</file>