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F3A4-7D1B-4AA2-B3CA-4C659CACA6B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4E87-B8DF-4DF1-8DF4-B9917973448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C4B9-B1E8-494B-BB6E-98AA39F1B92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414A-80E3-40BC-A491-7CBD9964FB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046F-45A5-4BE5-8FA4-0AA9CF9C050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10BF-5375-4AC4-9AF1-52F114671C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A844-2C3F-4D6D-9E5D-32A0AE32601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8D3E-3401-4CAF-BA93-54E90E3669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81DB-5D62-4B8C-B554-8267A06C185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9E9E-C8B8-4C67-A936-F9F592ABCF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4100-CF97-4863-B6F3-9DCA699F422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AEFE-DB03-4A24-895B-FF103C23A3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B67F-ADFF-466F-BD9B-F6497DBBF1A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F153-15F8-41C1-BED5-0908E13FC92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1F51-7259-4B71-AA5D-457A7B440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8F7B-9F92-4F73-B279-13F46F726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D93C-4531-43E6-A14D-9313A5B25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FCD9-6536-45BB-B3C9-35148A78AF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ECE0-F1E7-4152-84FD-8D9CD00A8D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4CE4-472D-438A-892B-599B02EB7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DE63-B7E6-496B-8A82-64CFACD99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1CA5-0AF5-4626-9F13-8AAC25598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244E-9C50-4EE5-933B-7C4A7CA29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BCD3-D6ED-4057-83A3-0D6420B03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0D26-5119-4528-BA3D-C4946DB93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F344-3319-4F60-9FE5-3371ABB58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1739-E4D4-4B88-A870-B39A8166062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2-18T12:10:53Z</dcterms:modified>
  <cp:revision>97</cp:revision>
  <dc:subject/>
  <dc:title>2006년도 식품의약품안전청 공개발표 선정평가    ℹ 사 업 명 :   ℹ 과 제 명 :   ℹ 연 구 비 :   ℹ 신청기관 :   ℹ 주관연구책임자 :</dc:title>
</cp:coreProperties>
</file>