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B261-8AD6-4B90-83A4-86A9DD291CF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2D65-B308-499C-B228-14ABEA1B54C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3A58-B085-4885-8E28-1935004A059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89CF-BFF6-412B-AA98-92422CD35BE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3E2A-A2EF-4C97-90FA-A791629468E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25DC-B4A5-47EE-902B-1F60E124409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3C41-B371-4C5E-A52A-29173A0A7B6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331D-9F11-4192-81D7-A71E1595DD8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8621-5079-49D2-919C-94234CD0914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678E-6C32-48ED-9745-E71EB5EF3D5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53FF-A286-4822-B40B-FB9A0545BAD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2C8A-0FB6-43B3-BD33-A3258B70E97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0540-8266-49B3-A5B7-85FB2EEE4F7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3E52-C0ED-4E0E-94DE-79223277586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7902-4321-4D3E-9F7B-7588D1B22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7D88-48D1-4D41-BEBE-085A1739D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6D09-B109-4588-923B-6FF198CAC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04BF-B402-46FD-B4A4-21CF240530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2FA56-CF13-4870-9368-6DABD10C7C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DF36-9D56-46C5-8960-876750463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57B7-C15F-48F0-9A9A-2370DAE3B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1803-6DB4-44D3-AAF4-83295D0C3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15B9-F1AD-45EB-8F2A-17C850F2C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74BE-DB0B-48E6-A534-C3F912BAC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AA59-6F2F-477D-AA22-F9D9323DC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4086-2CA1-451A-AD3E-5D26A8685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4849-C2C0-4630-9BFE-9835D5A43CE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용 계획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’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업로드할 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2-18T12:10:53Z</dcterms:modified>
  <cp:revision>97</cp:revision>
  <dc:subject/>
  <dc:title>2006년도 식품의약품안전청 공개발표 선정평가    ℹ 사 업 명 :   ℹ 과 제 명 :   ℹ 연 구 비 :   ℹ 신청기관 :   ℹ 주관연구책임자 :</dc:title>
</cp:coreProperties>
</file>