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7313-B9E4-4953-B43A-A3E183E4064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4BDC-B472-490E-B962-1FAF9E617CA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255C-9180-405E-8288-88497872E13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A29C-1060-4179-BB1C-3FF62582387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9C8C-9B6E-4BD8-9B08-856535F4EF9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448A-51B6-4C9B-9609-6980ADCA7A5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95F9-93EA-4C7E-88F2-F3E93F3B440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9590-E29D-45F2-89FC-0ADF347C1F9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10B7-CF77-48E7-A643-2E15ACE257B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DE73-C75A-41A0-84A8-ECFD614EF59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35A5-0385-4B76-9316-B6DEEEDCBBE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C70C-95F4-40E7-B53D-0399B261C1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3355-7389-4962-A60A-5103B86ECC5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F551-7AC9-4C21-A128-B424905948E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8D23-AB1E-4549-A5A0-544CC0684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BF4C-B15F-49F9-B4D5-B4E009336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20A1-02E1-4CAF-80BC-DC87B7AA5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E248-A3E9-4792-8C3F-57EED39C5E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B48A-F3CE-4097-AF0A-F6EC59A2A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6516-231F-4718-97A3-29594236D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D8AB-9600-4091-83AC-2C22B3035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A1B3-D1BE-4A96-BDE0-65F18E5FE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805E-6263-4C82-9351-55483640C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6928-9091-4F44-978D-AE7C71DDB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3E77-31E5-4969-B8E2-7A0C9875B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0409-8140-42DC-A8C8-B3758880C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A258-F04C-42C2-BA88-A7DC1428614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빈 파일 업로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4-08T08:53:09Z</dcterms:modified>
  <cp:revision>98</cp:revision>
  <dc:subject/>
  <dc:title>2006년도 식품의약품안전청 공개발표 선정평가    ℹ 사 업 명 :   ℹ 과 제 명 :   ℹ 연 구 비 :   ℹ 신청기관 :   ℹ 주관연구책임자 :</dc:title>
</cp:coreProperties>
</file>