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42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82104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0" y="937872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821040" y="937872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CD61F-7C03-47E4-BF77-7B69FA266F9B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94EE7-F2A9-4BAC-82B9-24B334212208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B35A4-A5EB-46A0-82FA-1FBA86D7B99E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06FCE-2C5D-4D25-AEB2-562E90F618CC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BCF75-9204-44EC-B1B3-327D9DF04C89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669EC-5D3A-4A62-9134-86C6955BF76C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C0488-0707-4408-9335-716F9B32807B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1CC03-ACAF-446F-95E6-9B2FC63AE980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A7287-B552-40C2-AB45-3D01B71492ED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5A4DB-1D9F-4074-9B2A-CBBB0F5DB082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BBA48-945B-4EE4-9387-E2C4E2266F9F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B87AC-5469-4CE6-AF55-9E532375F219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1D30C-456F-406A-865B-A19E706C9FC8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6D9EA-056B-4BEB-A27C-F2654D3CDCD1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46912-3589-4749-B839-4A8E03128A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A97D9-1FD7-4391-8FEE-831D5FBCBF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F98D0-E7A1-4B39-8BD5-F13B2C4462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A23AE-1769-476A-B3A0-540E8672C7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4DD2B-276A-4C6A-8C09-252C3D4A9C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19DEF-D505-4EC2-8F65-9E57D7F14F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7EBE3-B635-425B-B39C-76A90DC6B8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F5373-D573-4C08-B0BF-8474E9FAEF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74F31-300E-4B79-964F-D9E2BA4840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E6179-79AC-4BE0-B319-A7AE79FD1A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B1F44-3A3E-4CCF-845D-C75CCDEC0B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E4E75-3644-4410-98CA-93142B45DC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634AE-9910-437C-B748-E77375D9975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179280" y="4292640"/>
            <a:ext cx="8785440" cy="244944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◎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[</a:t>
            </a:r>
            <a:r>
              <a:rPr b="1" lang="ko-KR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첨부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1] </a:t>
            </a:r>
            <a:r>
              <a:rPr b="1" lang="ko-KR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과제 목록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의 각 과제별 평가방법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반드시 확인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◎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발표자료 작성 시 제공된 양식 사용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본 파일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발표자료의 구성 및 기본 양식은 변경할 수 없음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폰트 및 배경 등 디자인 요소는 변경 가능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발표자료의 페이지 수 제한 없음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특수 폰트 및 애니메이션 효과는 구현되지 않으므로 사용 자제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, PDF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파일로 변환하여 제출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※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제출 후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,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접수된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파일은 절대 수정 불가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※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본 페이지는 발표자료에서 삭제해 주시기 바랍니다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179280" y="133560"/>
            <a:ext cx="8785440" cy="861840"/>
          </a:xfrm>
          <a:prstGeom prst="rect">
            <a:avLst/>
          </a:prstGeom>
          <a:noFill/>
          <a:ln w="7632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발표자료 작성 시 주의사항</a:t>
            </a:r>
            <a:endParaRPr b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79280" y="1197000"/>
          <a:ext cx="8785440" cy="2808360"/>
        </p:xfrm>
        <a:graphic>
          <a:graphicData uri="http://schemas.openxmlformats.org/drawingml/2006/table">
            <a:tbl>
              <a:tblPr/>
              <a:tblGrid>
                <a:gridCol w="1782720"/>
                <a:gridCol w="7002720"/>
              </a:tblGrid>
              <a:tr h="585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표평가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066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제출 방법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PDF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로 변환하여 제출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5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평가 시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RFP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설명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분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(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식약처 주관부서에서 진행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 / </a:t>
                      </a:r>
                      <a:r>
                        <a:rPr b="1" lang="ko-KR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발표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20</a:t>
                      </a:r>
                      <a:r>
                        <a:rPr b="1" lang="ko-KR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분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/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질의응답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5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7-1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당해연도 연구개발비 규모 및 비목별 예산편성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900000" y="1193760"/>
          <a:ext cx="7345440" cy="4827600"/>
        </p:xfrm>
        <a:graphic>
          <a:graphicData uri="http://schemas.openxmlformats.org/drawingml/2006/table">
            <a:tbl>
              <a:tblPr/>
              <a:tblGrid>
                <a:gridCol w="881280"/>
                <a:gridCol w="1158840"/>
                <a:gridCol w="928440"/>
                <a:gridCol w="2041560"/>
                <a:gridCol w="1113120"/>
                <a:gridCol w="1222200"/>
              </a:tblGrid>
              <a:tr h="562320">
                <a:tc gridSpan="3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                                 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구   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  목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 구 개 발 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율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%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건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rowSpan="11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경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내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외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유인물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험분석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산처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약 및 연구용 재료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회의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임차료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교통통신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감가상각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성과활용관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반관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합         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60" name="Text Box 86"/>
          <p:cNvSpPr/>
          <p:nvPr/>
        </p:nvSpPr>
        <p:spPr>
          <a:xfrm>
            <a:off x="7020000" y="892080"/>
            <a:ext cx="145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단위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천원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7-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국외출장의 적절성</a:t>
            </a: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지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자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장목적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비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8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수행 일정의 적정성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목적하는 연구결과 도출 가능성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0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성과의 활용 가능성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과제제안서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RFP)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목표 </a:t>
            </a: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요연구내용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대성과 및 활용분야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609480" y="549360"/>
            <a:ext cx="7925040" cy="5657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단위과제명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과제명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r>
              <a:rPr b="1" i="1" lang="en-US" sz="2000" spc="-1" strike="noStrike">
                <a:solidFill>
                  <a:srgbClr val="3333cc"/>
                </a:solidFill>
                <a:latin typeface="굴림"/>
              </a:rPr>
              <a:t>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과제번호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접수번호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연구관리시스템상 접수번호 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관연구책임자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관연구기관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cc"/>
                </a:solidFill>
                <a:latin typeface="굴림"/>
              </a:rPr>
              <a:t>세부연구책임자 </a:t>
            </a:r>
            <a:r>
              <a:rPr b="1" lang="en-US" sz="2000" spc="-1" strike="noStrike">
                <a:solidFill>
                  <a:srgbClr val="3333cc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해당사항 없으면 삭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cc"/>
                </a:solidFill>
                <a:latin typeface="굴림"/>
              </a:rPr>
              <a:t>세부연구기관 </a:t>
            </a:r>
            <a:r>
              <a:rPr b="1" lang="en-US" sz="2000" spc="-1" strike="noStrike">
                <a:solidFill>
                  <a:srgbClr val="3333cc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해당사항 없으면 삭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기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년      월        일 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~ 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년      월        일 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당해연도 연구개발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천원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(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상 연구비 기입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목표 및 필요성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계획서와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RFP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의 부합성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범위 및 내용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추진전략 및 체계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책임자의 역량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업적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전문성 등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수행에 필요한 시설 및 장비 </a:t>
            </a:r>
            <a:r>
              <a:rPr b="1" i="1" lang="en-US" sz="1600" spc="-1" strike="noStrike">
                <a:solidFill>
                  <a:srgbClr val="0000ff"/>
                </a:solidFill>
                <a:latin typeface="굴림"/>
              </a:rPr>
              <a:t>(</a:t>
            </a:r>
            <a:r>
              <a:rPr b="1" i="1" lang="ko-KR" sz="1600" spc="-1" strike="noStrike">
                <a:solidFill>
                  <a:srgbClr val="0000ff"/>
                </a:solidFill>
                <a:latin typeface="굴림"/>
              </a:rPr>
              <a:t>해당사항 없으면 삭제</a:t>
            </a:r>
            <a:r>
              <a:rPr b="1" i="1" lang="en-US" sz="1600" spc="-1" strike="noStrike">
                <a:solidFill>
                  <a:srgbClr val="0000ff"/>
                </a:solidFill>
                <a:latin typeface="굴림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971640" y="1628640"/>
          <a:ext cx="7200720" cy="4105440"/>
        </p:xfrm>
        <a:graphic>
          <a:graphicData uri="http://schemas.openxmlformats.org/drawingml/2006/table">
            <a:tbl>
              <a:tblPr/>
              <a:tblGrid>
                <a:gridCol w="1893960"/>
                <a:gridCol w="822240"/>
                <a:gridCol w="1706400"/>
                <a:gridCol w="1957320"/>
                <a:gridCol w="820800"/>
              </a:tblGrid>
              <a:tr h="633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구기자재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및 시설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수량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용도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확보 및 활용방안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고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471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9T04:24:03Z</dcterms:created>
  <dc:creator>SEC</dc:creator>
  <dc:description/>
  <dc:language>en-US</dc:language>
  <cp:lastModifiedBy>Administrator</cp:lastModifiedBy>
  <cp:lastPrinted>2020-02-04T06:07:16Z</cp:lastPrinted>
  <dcterms:modified xsi:type="dcterms:W3CDTF">2021-08-30T04:31:01Z</dcterms:modified>
  <cp:revision>104</cp:revision>
  <dc:subject/>
  <dc:title>2006년도 식품의약품안전청 공개발표 선정평가    ℹ 사 업 명 :   ℹ 과 제 명 :   ℹ 연 구 비 :   ℹ 신청기관 :   ℹ 주관연구책임자 :</dc:title>
</cp:coreProperties>
</file>